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590C-75A0-4176-9C15-8F32EBDB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29A1-1A01-4B35-AF98-EC637B41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0ACF-F654-431A-A6E2-9CDA2BFA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EE71-81E0-44F6-B91A-D9524DDE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934E-5F6A-4351-A162-85B75883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0E11-1397-4B8E-9969-77289927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92EB-06C8-4099-8540-DCDD6B35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EC3E-599D-41E2-BFC3-9D5F0B41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6543-2A47-47A7-8F32-EA704885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9E72-30EA-4DC7-8950-202374AB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D933-03AF-4325-ABAA-4C2B2A0D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52C8-6CD2-4711-A425-8B435F51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3269-CCC9-431B-BF28-29D92474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3B8D-9A30-4FBA-8CF6-AB179F88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BD7A-EEE6-4FB1-AE14-703B0096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3B47-3C10-4F05-92C4-97D95682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E080-5F69-4872-AAF1-E0514100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4294-1342-48D8-9838-C458ED56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149E-66EB-4F65-B61B-7E2E7A60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54C3-ADFA-4A9B-81BA-60315AE7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6989-41EF-436D-A3D9-3597A244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C817-F5B7-4D2F-B38D-1147D0EF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2EB1-3B53-4A26-8609-10BB9DA9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AA1C-71D2-4A41-BD59-BCA144D7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9787-4F7C-45EF-9877-7F2CAC7253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A9CA-F29F-4BFE-B3B0-2896EEB3DF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922320" cy="9046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d9d9ff"/>
                </a:solidFill>
                <a:uFillTx/>
                <a:latin typeface="Comic Sans MS"/>
              </a:rPr>
              <a:t>Pedwar digid</a:t>
            </a:r>
            <a:endParaRPr b="1" lang="en-US" sz="28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0920" y="3357360"/>
            <a:ext cx="75596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ff66"/>
                </a:solidFill>
                <a:latin typeface="Comic Sans MS"/>
              </a:rPr>
              <a:t>Mae swm y digid cyntaf a’r trydydd digid y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ff66"/>
                </a:solidFill>
                <a:latin typeface="Comic Sans MS"/>
              </a:rPr>
              <a:t>ddwbl swm yr ail a’r pedwerydd dig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7200" y="981000"/>
            <a:ext cx="6398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eth yw’r rhif 4 digid a ddisgrifir iso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1800" y="1844640"/>
            <a:ext cx="78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Mae’r digid cyntaf yn dreuan o’r trydydd dig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1960" y="2637000"/>
            <a:ext cx="805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e’r pedwerydd digid ddwywaith yr ail ddig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76360" y="5445000"/>
            <a:ext cx="922320" cy="905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84360" y="4508640"/>
            <a:ext cx="922320" cy="904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932360" y="4653000"/>
            <a:ext cx="922320" cy="904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7524720" y="4149720"/>
            <a:ext cx="922320" cy="905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2700360" y="4724280"/>
            <a:ext cx="922320" cy="905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7380360" y="476280"/>
            <a:ext cx="922320" cy="90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3635280" y="5445000"/>
            <a:ext cx="922320" cy="905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5867280" y="5445000"/>
            <a:ext cx="922320" cy="905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0"/>
          <a:stretch/>
        </p:blipFill>
        <p:spPr>
          <a:xfrm>
            <a:off x="7451640" y="5229360"/>
            <a:ext cx="92232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9:09:39Z</dcterms:created>
  <dc:creator>Carwyn</dc:creator>
  <dc:description/>
  <dc:language>en-US</dc:language>
  <cp:lastModifiedBy>Carwyn</cp:lastModifiedBy>
  <dcterms:modified xsi:type="dcterms:W3CDTF">2008-12-07T19:26:08Z</dcterms:modified>
  <cp:revision>2</cp:revision>
  <dc:subject/>
  <dc:title>Slide 1</dc:title>
</cp:coreProperties>
</file>